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0.png" ContentType="image/png"/>
  <Override PartName="/ppt/media/image9.jpeg" ContentType="image/jpeg"/>
  <Override PartName="/ppt/media/image11.jpeg" ContentType="image/jpeg"/>
  <Override PartName="/ppt/media/image8.png" ContentType="image/png"/>
  <Override PartName="/ppt/media/image5.gif" ContentType="image/gif"/>
  <Override PartName="/ppt/media/image14.jpeg" ContentType="image/jpeg"/>
  <Override PartName="/ppt/media/image7.gif" ContentType="image/gif"/>
  <Override PartName="/ppt/media/image12.jpeg" ContentType="image/jpeg"/>
  <Override PartName="/ppt/media/image6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7.png" ContentType="image/png"/>
  <Override PartName="/ppt/media/image25.jpeg" ContentType="image/jpeg"/>
  <Override PartName="/ppt/media/image2.jpeg" ContentType="image/jpeg"/>
  <Override PartName="/ppt/media/image24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9.png" ContentType="image/png"/>
  <Override PartName="/ppt/media/image18.png" ContentType="image/png"/>
  <Override PartName="/ppt/media/image15.gif" ContentType="image/gif"/>
  <Override PartName="/ppt/media/image1.png" ContentType="image/png"/>
  <Override PartName="/ppt/media/image3.png" ContentType="image/png"/>
  <Override PartName="/ppt/media/image26.png" ContentType="image/pn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0b4c8"/>
                </a:solidFill>
                <a:latin typeface="Calibri Light"/>
              </a:rPr>
              <a:t>Click to move the slide</a:t>
            </a: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52D407-08F9-4FFF-828A-8498050961F8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코페르니쿠스</a:t>
            </a:r>
            <a:endParaRPr b="0" lang="en-US" sz="22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폴란드 출신의 교회 행정가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탈리아 유학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1" lang="ko-KR" sz="2000" spc="-1" strike="noStrike">
                <a:solidFill>
                  <a:srgbClr val="ed7d31"/>
                </a:solidFill>
                <a:latin typeface="맑은 고딕"/>
                <a:ea typeface="맑은 고딕"/>
              </a:rPr>
              <a:t>신플라톤주의자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들과 교류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교황청 주도의 달력 개정 사업에 참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51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경 지구가 태양 주위를 돈다고 생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5" name="슬라이드 번호 개체 틀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7E5725-7CBF-4A3F-AA95-5051670C9A01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equant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용에 대한 불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등속 운동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8" name="슬라이드 번호 개체 틀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632E73-766C-4F52-A791-FD0B1D5769DB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프톨레마이오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1200" spc="-1" strike="noStrike">
                <a:solidFill>
                  <a:srgbClr val="ed7d31"/>
                </a:solidFill>
                <a:latin typeface="맑은 고딕"/>
                <a:ea typeface="맑은 고딕"/>
              </a:rPr>
              <a:t>주전원이라는 별도의 가정 도입 필요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코페르니쿠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1200" spc="-1" strike="noStrike">
                <a:solidFill>
                  <a:srgbClr val="ed7d31"/>
                </a:solidFill>
                <a:latin typeface="맑은 고딕"/>
                <a:ea typeface="맑은 고딕"/>
              </a:rPr>
              <a:t>우주구조 자체로 설명 </a:t>
            </a:r>
            <a:r>
              <a:rPr b="0" lang="ko-KR" sz="1200" spc="-1" strike="noStrike">
                <a:solidFill>
                  <a:srgbClr val="ed7d31"/>
                </a:solidFill>
                <a:latin typeface="Wingdings"/>
                <a:ea typeface="Wingdings"/>
              </a:rPr>
              <a:t></a:t>
            </a:r>
            <a:r>
              <a:rPr b="0" lang="ko-KR" sz="1200" spc="-1" strike="noStrike">
                <a:solidFill>
                  <a:srgbClr val="ed7d31"/>
                </a:solidFill>
                <a:latin typeface="맑은 고딕"/>
                <a:ea typeface="맑은 고딕"/>
              </a:rPr>
              <a:t> 실제가 아니라 겉보기 운동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1" name="슬라이드 번호 개체 틀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3C4FF0-43E5-47DC-9983-A2122FAB0714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성과 금성의 경우</a:t>
            </a:r>
            <a:r>
              <a:rPr b="0" lang="en-US" sz="2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태양과 함께 몰려 다니는 현상</a:t>
            </a:r>
            <a:endParaRPr b="0" lang="en-US" sz="26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프톨레마이오스</a:t>
            </a:r>
            <a:r>
              <a:rPr b="0" lang="en-US" sz="2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‘</a:t>
            </a:r>
            <a:r>
              <a:rPr b="1" lang="ko-KR" sz="2200" spc="-1" strike="noStrike">
                <a:solidFill>
                  <a:srgbClr val="ed7d31"/>
                </a:solidFill>
                <a:latin typeface="맑은 고딕"/>
                <a:ea typeface="맑은 고딕"/>
              </a:rPr>
              <a:t>주전원 가정’과 또 다른 ‘별도의 가정’ 필요</a:t>
            </a:r>
            <a:endParaRPr b="0" lang="en-US" sz="22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코페르니쿠스</a:t>
            </a:r>
            <a:r>
              <a:rPr b="0" lang="en-US" sz="2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‘</a:t>
            </a:r>
            <a:r>
              <a:rPr b="1" lang="ko-KR" sz="2200" spc="-1" strike="noStrike">
                <a:solidFill>
                  <a:srgbClr val="ed7d31"/>
                </a:solidFill>
                <a:latin typeface="맑은 고딕"/>
                <a:ea typeface="맑은 고딕"/>
              </a:rPr>
              <a:t>우주 구조 자체’에서 비롯되는 겉보기 운동 현상</a:t>
            </a:r>
            <a:endParaRPr b="0" lang="en-US" sz="2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4" name="슬라이드 번호 개체 틀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B34F9C-023F-4653-A37A-A8C2DC556ADF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307" name="슬라이드 번호 개체 틀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01ECDD-4269-4A6F-A918-E1675EF9BC8D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천체의 등속 원운동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성적 추론의 산물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영원하며 초월적이며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완벽한 순수 형상의 세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운동을 하지만 본질적으로 변하지 않아야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적합한 운동은 오직 등속 원운동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후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00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간 천문학의 패러다임 이룸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4" name="슬라이드 번호 개체 틀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C4750E-4C15-4523-B03B-3ACA01B2DF02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277" name="슬라이드 번호 개체 틀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6D99A2-A748-4B29-B55F-027B2EEBFC29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280" name="슬라이드 번호 개체 틀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7CE6AB-5BA6-4A16-8300-9F4835897DF5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283" name="슬라이드 번호 개체 틀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6B3D07-462A-43C8-984E-547368868631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286" name="슬라이드 번호 개체 틀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FA7929-B3CC-4697-BF77-05732156C5EC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아리스토텔레스의 자연철학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우주론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운동론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질론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잘 부합하나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9" name="슬라이드 번호 개체 틀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BB5F4C-8FC0-47FB-85A0-B05D12D55F33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292" name="슬라이드 번호 개체 틀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CC2BC5-9BEB-48E3-9234-BB71B142E2F2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A255-129F-4BFD-AC2B-46BAE0668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806616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6520" y="3960360"/>
            <a:ext cx="806616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A1E2-6D86-4BDC-B367-C79E02E80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004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6520" y="396036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40040" y="396036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E076-5AFC-4CD3-9EDF-8646F89F7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3880" y="199368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1240" y="199368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6520" y="396036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3880" y="396036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1240" y="396036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9645-EDB9-4827-B7E0-5AC975E89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56E4D-58BC-4AEC-A3B8-14D52D217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6520" y="1993680"/>
            <a:ext cx="8066160" cy="376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E941C-5FB7-41B7-ACC6-1D3CB4336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806616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F6135-AF3C-4FD2-9F41-1CE04D965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393624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0040" y="1993680"/>
            <a:ext cx="393624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8276B-3E96-4837-8C2F-4CA52223F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DA007-90C4-4DA8-87F6-D01C4BB28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93560" y="500040"/>
            <a:ext cx="8079120" cy="76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90CFC-9631-4754-B60F-E76A8A4C1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0040" y="1993680"/>
            <a:ext cx="393624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6520" y="396036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EC18A-C095-4500-B973-036F2BC44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6520" y="1993680"/>
            <a:ext cx="8066160" cy="376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68FF-54E9-4BB2-84BE-A936E5182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393624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004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40040" y="396036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96084-5AE5-4AC7-9055-B8A5FA3D5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004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6520" y="3960360"/>
            <a:ext cx="806616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0FD02-ACCC-4F9E-B84E-941DDCC66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806616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6520" y="3960360"/>
            <a:ext cx="806616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30882-2FE2-4FB2-AB22-5375DC3A7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004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6520" y="396036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40040" y="396036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D6578-F9A5-4B1F-B756-F22FD8A02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3880" y="199368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1240" y="199368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6520" y="396036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3880" y="396036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1240" y="396036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8946E-31B4-451B-96B7-C00472ABE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8EDF50-9DCF-4AA6-9D83-DD266F118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506520" y="1993680"/>
            <a:ext cx="8066160" cy="376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F7FB78-6B71-440A-9C8C-AFA7F6085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806616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693BE6-AD25-406C-A26F-5159872EA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393624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40040" y="1993680"/>
            <a:ext cx="393624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39DA4F-FD7E-4604-9FF4-E1769A539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68CE64-3C33-4ABA-A3E4-70009B4AF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806616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8BC6-0531-4A5B-BF06-D03BD5C01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93560" y="500040"/>
            <a:ext cx="8079120" cy="76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931234-BF92-46AC-921E-7D2CAA25F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40040" y="1993680"/>
            <a:ext cx="393624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06520" y="396036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99BA20-5FF0-46DF-8B75-E237351BF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393624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4004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40040" y="396036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9A6F8F-2840-472D-BDD7-E3EC5FCEA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004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06520" y="3960360"/>
            <a:ext cx="806616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56C65F-A39A-46FF-9C06-DCB9C72DB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806616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06520" y="3960360"/>
            <a:ext cx="806616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391E14-889B-420E-9252-9A4C1DDA0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4004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06520" y="396036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40040" y="396036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161ADE-83E9-46A4-B519-6EBCA6955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3880" y="199368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961240" y="199368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506520" y="396036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3880" y="396036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961240" y="396036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B4D1BE-22D1-41C2-B6DB-D6ADCA76E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D8FE31-7FFE-4B9C-BCA6-E9C13C339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506520" y="1993680"/>
            <a:ext cx="8066160" cy="376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EB9B6F-6C8D-4464-AEBE-C63C321D9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806616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AA69C8-0174-4BD5-B3CD-97B0BC99A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393624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40040" y="1993680"/>
            <a:ext cx="393624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F7BC-2FCF-4DC4-9370-C4C6997D8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393624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40040" y="1993680"/>
            <a:ext cx="393624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2326F9-926C-4A04-AA9B-1DFCF4724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82F8D2-431F-4DF5-956E-647670B0C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93560" y="500040"/>
            <a:ext cx="8079120" cy="76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CB6503-1C10-4202-82DA-0F0117353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40040" y="1993680"/>
            <a:ext cx="393624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06520" y="396036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88AD46-66BC-4834-85AE-A6851F2DC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393624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4004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40040" y="396036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D2BEBC-988C-44D7-8EE1-97707790A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4004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06520" y="3960360"/>
            <a:ext cx="806616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B6A504-3A82-45B8-9371-991517D2D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806616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06520" y="3960360"/>
            <a:ext cx="806616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9FFD2F-AA11-4399-B0FD-83C7ED290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4004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6520" y="396036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40040" y="396036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082301-AD47-4ADD-BE2E-2FC5561E9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3880" y="199368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961240" y="199368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506520" y="396036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3880" y="396036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5961240" y="396036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7A1A3C-06F6-4093-827A-3F917B03D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5259-81D5-4E77-B8D3-87FBD6658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560" y="500040"/>
            <a:ext cx="8079120" cy="76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E3B5-C384-436B-8FE3-D93AC4A3C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0040" y="1993680"/>
            <a:ext cx="393624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6520" y="396036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6E32-5977-4B70-8546-A82EB460E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393624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4004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40040" y="396036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BAEA-44FC-4505-AF65-CDCE25DC7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004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6520" y="3960360"/>
            <a:ext cx="806616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C83D-88CE-4412-A06F-27FEBBB8F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0b4c8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6520" y="1993680"/>
            <a:ext cx="806616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0360" indent="-90360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1" marL="272880" indent="103695840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2" marL="547560" indent="-547560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3" marL="822240" indent="-822240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4" marL="1096920" indent="-1096920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5" marL="1096920" indent="-1096920">
              <a:lnSpc>
                <a:spcPct val="85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6" marL="1096920" indent="-1096920">
              <a:lnSpc>
                <a:spcPct val="85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440" y="6411600"/>
            <a:ext cx="30859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14080" y="6554520"/>
            <a:ext cx="3771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40120" y="5829480"/>
            <a:ext cx="219564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0" spc="-1" strike="noStrike">
                <a:solidFill>
                  <a:srgbClr val="50b4c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03657D-08D9-437B-9C44-D0437D843F30}" type="slidenum">
              <a:rPr b="0" lang="en-US" sz="9000" spc="-1" strike="noStrike">
                <a:solidFill>
                  <a:srgbClr val="50b4c8"/>
                </a:solidFill>
                <a:latin typeface="Times New Roman"/>
              </a:rPr>
              <a:t>&lt;number&gt;</a:t>
            </a:fld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0b4c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b4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0b4c8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06520" y="1993680"/>
            <a:ext cx="806616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0360" indent="-90360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1" marL="272880" indent="103695840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2" marL="547560" indent="-547560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3" marL="822240" indent="-822240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4" marL="1096920" indent="-1096920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5" marL="1096920" indent="-1096920">
              <a:lnSpc>
                <a:spcPct val="85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6" marL="1096920" indent="-1096920">
              <a:lnSpc>
                <a:spcPct val="85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514440" y="6411600"/>
            <a:ext cx="30859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514080" y="6554520"/>
            <a:ext cx="3771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40120" y="5829480"/>
            <a:ext cx="219564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4E7CED-5A13-4F33-859B-CBDF6254A8EC}" type="slidenum">
              <a:rPr b="0" lang="en-US" sz="9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"/>
          <p:cNvSpPr/>
          <p:nvPr/>
        </p:nvSpPr>
        <p:spPr>
          <a:xfrm>
            <a:off x="5715000" y="0"/>
            <a:ext cx="3429000" cy="6858000"/>
          </a:xfrm>
          <a:prstGeom prst="rect">
            <a:avLst/>
          </a:prstGeom>
          <a:solidFill>
            <a:srgbClr val="50b4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0b4c8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506520" y="1993680"/>
            <a:ext cx="806616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0360" indent="-90360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1" marL="272880" indent="103695840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2" marL="547560" indent="-547560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3" marL="822240" indent="-822240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4" marL="1096920" indent="-1096920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5" marL="1096920" indent="-1096920">
              <a:lnSpc>
                <a:spcPct val="85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6" marL="1096920" indent="-1096920">
              <a:lnSpc>
                <a:spcPct val="85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514440" y="6411600"/>
            <a:ext cx="30859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514080" y="6554520"/>
            <a:ext cx="3771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40120" y="5829480"/>
            <a:ext cx="219564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13E8DA-927B-4B5D-B2D7-1B3423A41401}" type="slidenum">
              <a:rPr b="0" lang="en-US" sz="9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0b4c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0b4c8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506520" y="1993680"/>
            <a:ext cx="806616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0360" indent="-90360">
              <a:lnSpc>
                <a:spcPct val="85000"/>
              </a:lnSpc>
              <a:spcBef>
                <a:spcPts val="1301"/>
              </a:spcBef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 Light"/>
            </a:endParaRPr>
          </a:p>
          <a:p>
            <a:pPr lvl="1" marL="272880" indent="103695840">
              <a:lnSpc>
                <a:spcPct val="85000"/>
              </a:lnSpc>
              <a:spcBef>
                <a:spcPts val="1301"/>
              </a:spcBef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 Light"/>
            </a:endParaRPr>
          </a:p>
          <a:p>
            <a:pPr lvl="2" marL="547560" indent="-547560">
              <a:lnSpc>
                <a:spcPct val="85000"/>
              </a:lnSpc>
              <a:spcBef>
                <a:spcPts val="1301"/>
              </a:spcBef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 Light"/>
            </a:endParaRPr>
          </a:p>
          <a:p>
            <a:pPr lvl="3" marL="822240" indent="-822240">
              <a:lnSpc>
                <a:spcPct val="85000"/>
              </a:lnSpc>
              <a:spcBef>
                <a:spcPts val="1301"/>
              </a:spcBef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 Light"/>
            </a:endParaRPr>
          </a:p>
          <a:p>
            <a:pPr lvl="4" marL="1096920" indent="-1096920">
              <a:lnSpc>
                <a:spcPct val="85000"/>
              </a:lnSpc>
              <a:spcBef>
                <a:spcPts val="1301"/>
              </a:spcBef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 Light"/>
            </a:endParaRPr>
          </a:p>
          <a:p>
            <a:pPr lvl="5" marL="1096920" indent="-1096920">
              <a:lnSpc>
                <a:spcPct val="85000"/>
              </a:lnSpc>
              <a:spcBef>
                <a:spcPts val="1301"/>
              </a:spcBef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 Light"/>
            </a:endParaRPr>
          </a:p>
          <a:p>
            <a:pPr lvl="6" marL="1096920" indent="-1096920">
              <a:lnSpc>
                <a:spcPct val="85000"/>
              </a:lnSpc>
              <a:spcBef>
                <a:spcPts val="1301"/>
              </a:spcBef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514440" y="6411600"/>
            <a:ext cx="30859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514080" y="6554520"/>
            <a:ext cx="3771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40120" y="5829480"/>
            <a:ext cx="219564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EFD9F3-2F8B-43DC-8607-812108CFE18A}" type="slidenum">
              <a:rPr b="0" lang="en-US" sz="9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7.gif"/><Relationship Id="rId5" Type="http://schemas.openxmlformats.org/officeDocument/2006/relationships/image" Target="../media/image15.gif"/><Relationship Id="rId6" Type="http://schemas.openxmlformats.org/officeDocument/2006/relationships/slideLayout" Target="../slideLayouts/slideLayout37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330880"/>
          </a:xfrm>
          <a:prstGeom prst="rect">
            <a:avLst/>
          </a:prstGeom>
          <a:ln w="0">
            <a:noFill/>
          </a:ln>
        </p:spPr>
      </p:pic>
      <p:sp>
        <p:nvSpPr>
          <p:cNvPr id="174" name="TextBox 4"/>
          <p:cNvSpPr/>
          <p:nvPr/>
        </p:nvSpPr>
        <p:spPr>
          <a:xfrm>
            <a:off x="591120" y="390600"/>
            <a:ext cx="190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ko-KR" sz="1800" spc="-1" strike="noStrike">
                <a:solidFill>
                  <a:srgbClr val="dcf0f4"/>
                </a:solidFill>
                <a:latin typeface="Calibri Light"/>
                <a:ea typeface="맑은 고딕"/>
              </a:rPr>
              <a:t>에피소드 과학철학</a:t>
            </a: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dcf0f4"/>
                </a:solidFill>
                <a:latin typeface="Calibri Light"/>
                <a:ea typeface="맑은 고딕"/>
              </a:rPr>
              <a:t>2015</a:t>
            </a:r>
            <a:r>
              <a:rPr b="0" lang="ko-KR" sz="1800" spc="-1" strike="noStrike">
                <a:solidFill>
                  <a:srgbClr val="dcf0f4"/>
                </a:solidFill>
                <a:latin typeface="Calibri Light"/>
                <a:ea typeface="맑은 고딕"/>
              </a:rPr>
              <a:t>년 </a:t>
            </a:r>
            <a:r>
              <a:rPr b="0" lang="en-US" sz="1800" spc="-1" strike="noStrike">
                <a:solidFill>
                  <a:srgbClr val="dcf0f4"/>
                </a:solidFill>
                <a:latin typeface="Calibri Light"/>
                <a:ea typeface="맑은 고딕"/>
              </a:rPr>
              <a:t>3</a:t>
            </a:r>
            <a:r>
              <a:rPr b="0" lang="ko-KR" sz="1800" spc="-1" strike="noStrike">
                <a:solidFill>
                  <a:srgbClr val="dcf0f4"/>
                </a:solidFill>
                <a:latin typeface="Calibri Light"/>
                <a:ea typeface="맑은 고딕"/>
              </a:rPr>
              <a:t>월 </a:t>
            </a:r>
            <a:r>
              <a:rPr b="0" lang="en-US" sz="1800" spc="-1" strike="noStrike">
                <a:solidFill>
                  <a:srgbClr val="dcf0f4"/>
                </a:solidFill>
                <a:latin typeface="Calibri Light"/>
                <a:ea typeface="맑은 고딕"/>
              </a:rPr>
              <a:t>17</a:t>
            </a:r>
            <a:r>
              <a:rPr b="0" lang="ko-KR" sz="1800" spc="-1" strike="noStrike">
                <a:solidFill>
                  <a:srgbClr val="dcf0f4"/>
                </a:solidFill>
                <a:latin typeface="Calibri Light"/>
                <a:ea typeface="맑은 고딕"/>
              </a:rPr>
              <a:t>일</a:t>
            </a: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ko-KR" sz="1800" spc="-1" strike="noStrike">
                <a:solidFill>
                  <a:srgbClr val="dcf0f4"/>
                </a:solidFill>
                <a:latin typeface="Calibri Light"/>
                <a:ea typeface="맑은 고딕"/>
              </a:rPr>
              <a:t>정동욱</a:t>
            </a: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99680" y="2525400"/>
            <a:ext cx="8086680" cy="235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200" spc="-1" strike="noStrike">
                <a:solidFill>
                  <a:srgbClr val="ffffff"/>
                </a:solidFill>
                <a:latin typeface="Calibri Light"/>
                <a:ea typeface="맑은 고딕"/>
              </a:rPr>
              <a:t>코페르니쿠스와 </a:t>
            </a:r>
            <a:br>
              <a:rPr sz="7200"/>
            </a:br>
            <a:r>
              <a:rPr b="0" lang="ko-KR" sz="7200" spc="-1" strike="noStrike">
                <a:solidFill>
                  <a:srgbClr val="ffffff"/>
                </a:solidFill>
                <a:latin typeface="Calibri Light"/>
                <a:ea typeface="맑은 고딕"/>
              </a:rPr>
              <a:t>천문학 혁명</a:t>
            </a:r>
            <a:endParaRPr b="0" lang="en-US" sz="72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51960" y="5670360"/>
            <a:ext cx="692316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700" spc="-1" strike="noStrike">
                <a:solidFill>
                  <a:srgbClr val="ffffff"/>
                </a:solidFill>
                <a:latin typeface="Calibri Light"/>
                <a:ea typeface="맑은 고딕"/>
              </a:rPr>
              <a:t>과학적 창의성의 비밀</a:t>
            </a:r>
            <a:endParaRPr b="0" lang="en-US" sz="3700" spc="-1" strike="noStrike">
              <a:solidFill>
                <a:srgbClr val="ffffff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87080" y="5417640"/>
            <a:ext cx="8085240" cy="614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Calibri Light"/>
                <a:ea typeface="맑은 고딕"/>
              </a:rPr>
              <a:t>코페르니쿠스의 </a:t>
            </a:r>
            <a:r>
              <a:rPr b="0" lang="en-US" sz="2500" spc="-1" strike="noStrike">
                <a:solidFill>
                  <a:srgbClr val="ffffff"/>
                </a:solidFill>
                <a:latin typeface="Calibri Light"/>
                <a:ea typeface="맑은 고딕"/>
              </a:rPr>
              <a:t>《</a:t>
            </a:r>
            <a:r>
              <a:rPr b="0" lang="ko-KR" sz="2500" spc="-1" strike="noStrike">
                <a:solidFill>
                  <a:srgbClr val="ffffff"/>
                </a:solidFill>
                <a:latin typeface="Calibri Light"/>
                <a:ea typeface="맑은 고딕"/>
              </a:rPr>
              <a:t>천구의 회전에 관하여</a:t>
            </a:r>
            <a:r>
              <a:rPr b="0" lang="en-US" sz="2500" spc="-1" strike="noStrike">
                <a:solidFill>
                  <a:srgbClr val="ffffff"/>
                </a:solidFill>
                <a:latin typeface="Calibri Light"/>
                <a:ea typeface="맑은 고딕"/>
              </a:rPr>
              <a:t>》 </a:t>
            </a:r>
            <a:r>
              <a:rPr b="0" lang="en-US" sz="2500" spc="-1" strike="noStrike">
                <a:solidFill>
                  <a:srgbClr val="ffffff"/>
                </a:solidFill>
                <a:latin typeface="Calibri Light"/>
                <a:ea typeface="맑은 고딕"/>
              </a:rPr>
              <a:t>(1543)</a:t>
            </a:r>
            <a:endParaRPr b="0" lang="en-US" sz="2500" spc="-1" strike="noStrike">
              <a:solidFill>
                <a:srgbClr val="50b4c8"/>
              </a:solidFill>
              <a:latin typeface="Calibri Light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33088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7960" y="6053040"/>
            <a:ext cx="8244000" cy="54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262626"/>
                </a:solidFill>
                <a:latin typeface="Calibri Light"/>
                <a:ea typeface="맑은 고딕"/>
              </a:rPr>
              <a:t>지구의 운동을 제외하면 전문적인 수리 행성 천문학 서적</a:t>
            </a:r>
            <a:endParaRPr b="0" lang="en-US" sz="1600" spc="-1" strike="noStrike">
              <a:solidFill>
                <a:srgbClr val="ffffff"/>
              </a:solidFill>
              <a:latin typeface="Calibri Light"/>
            </a:endParaRPr>
          </a:p>
        </p:txBody>
      </p:sp>
      <p:pic>
        <p:nvPicPr>
          <p:cNvPr id="211" name="Picture 6" descr="Copernicus"/>
          <p:cNvPicPr/>
          <p:nvPr/>
        </p:nvPicPr>
        <p:blipFill>
          <a:blip r:embed="rId2"/>
          <a:stretch/>
        </p:blipFill>
        <p:spPr>
          <a:xfrm>
            <a:off x="1106640" y="187200"/>
            <a:ext cx="3528720" cy="49752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4" descr="copernicus1-1"/>
          <p:cNvPicPr/>
          <p:nvPr/>
        </p:nvPicPr>
        <p:blipFill>
          <a:blip r:embed="rId3"/>
          <a:stretch/>
        </p:blipFill>
        <p:spPr>
          <a:xfrm>
            <a:off x="4925880" y="169920"/>
            <a:ext cx="2949840" cy="49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직사각형 4"/>
          <p:cNvSpPr/>
          <p:nvPr/>
        </p:nvSpPr>
        <p:spPr>
          <a:xfrm>
            <a:off x="0" y="1893960"/>
            <a:ext cx="9144000" cy="4964040"/>
          </a:xfrm>
          <a:prstGeom prst="rect">
            <a:avLst/>
          </a:prstGeom>
          <a:solidFill>
            <a:srgbClr val="50b4c8"/>
          </a:solidFill>
          <a:ln w="12600">
            <a:solidFill>
              <a:srgbClr val="50b4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0b4c8"/>
                </a:solidFill>
                <a:latin typeface="Calibri Light"/>
                <a:ea typeface="맑은 고딕"/>
              </a:rPr>
              <a:t>“</a:t>
            </a:r>
            <a:r>
              <a:rPr b="0" lang="ko-KR" sz="4400" spc="-1" strike="noStrike">
                <a:solidFill>
                  <a:srgbClr val="50b4c8"/>
                </a:solidFill>
                <a:latin typeface="Calibri Light"/>
                <a:ea typeface="맑은 고딕"/>
              </a:rPr>
              <a:t>프톨레마이오스의 체계는 괴물</a:t>
            </a:r>
            <a:r>
              <a:rPr b="0" lang="en-US" sz="4400" spc="-1" strike="noStrike">
                <a:solidFill>
                  <a:srgbClr val="50b4c8"/>
                </a:solidFill>
                <a:latin typeface="Calibri Light"/>
                <a:ea typeface="맑은 고딕"/>
              </a:rPr>
              <a:t>”</a:t>
            </a:r>
            <a:endParaRPr b="0" lang="en-US" sz="44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06520" y="2395440"/>
            <a:ext cx="8066160" cy="336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428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ffff"/>
                </a:solidFill>
                <a:latin typeface="Calibri Light"/>
                <a:ea typeface="맑은 고딕"/>
              </a:rPr>
              <a:t>이질적 원리 조합 </a:t>
            </a:r>
            <a:r>
              <a:rPr b="0" lang="en-US" sz="2600" spc="-1" strike="noStrike">
                <a:solidFill>
                  <a:srgbClr val="ffffff"/>
                </a:solidFill>
                <a:latin typeface="Calibri Light"/>
                <a:ea typeface="맑은 고딕"/>
              </a:rPr>
              <a:t>– </a:t>
            </a:r>
            <a:r>
              <a:rPr b="0" lang="ko-KR" sz="2600" spc="-1" strike="noStrike">
                <a:solidFill>
                  <a:srgbClr val="ffffff"/>
                </a:solidFill>
                <a:latin typeface="Calibri Light"/>
                <a:ea typeface="맑은 고딕"/>
              </a:rPr>
              <a:t>우주의 조화와 대칭성 훼손</a:t>
            </a:r>
            <a:endParaRPr b="0" lang="en-US" sz="2600" spc="-1" strike="noStrike">
              <a:solidFill>
                <a:srgbClr val="262626"/>
              </a:solidFill>
              <a:latin typeface="Calibri Light"/>
            </a:endParaRPr>
          </a:p>
          <a:p>
            <a:pPr lvl="1" marL="4428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ffff"/>
                </a:solidFill>
                <a:latin typeface="Calibri Light"/>
                <a:ea typeface="맑은 고딕"/>
              </a:rPr>
              <a:t>태양을 중심에 두면 조화롭고 간단한 체계 가능</a:t>
            </a:r>
            <a:endParaRPr b="0" lang="en-US" sz="2600" spc="-1" strike="noStrike">
              <a:solidFill>
                <a:srgbClr val="262626"/>
              </a:solidFill>
              <a:latin typeface="Calibri Light"/>
            </a:endParaRPr>
          </a:p>
          <a:p>
            <a:pPr lvl="1" marL="4428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alibri Light"/>
            </a:endParaRPr>
          </a:p>
          <a:p>
            <a:pPr lvl="1" marL="4428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ffff"/>
                </a:solidFill>
                <a:latin typeface="Calibri Light"/>
                <a:ea typeface="맑은 고딕"/>
              </a:rPr>
              <a:t>태양중심설을 이미 주장했었던 고대의 학자들 인용</a:t>
            </a:r>
            <a:endParaRPr b="0" lang="en-US" sz="2600" spc="-1" strike="noStrike">
              <a:solidFill>
                <a:srgbClr val="262626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87080" y="5417640"/>
            <a:ext cx="8085240" cy="614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ffff"/>
                </a:solidFill>
                <a:latin typeface="Calibri Light"/>
                <a:ea typeface="맑은 고딕"/>
              </a:rPr>
              <a:t>행성의 역행 운동</a:t>
            </a:r>
            <a:endParaRPr b="0" lang="en-US" sz="3600" spc="-1" strike="noStrike">
              <a:solidFill>
                <a:srgbClr val="50b4c8"/>
              </a:solidFill>
              <a:latin typeface="Calibri Light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33088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7600" y="5910120"/>
            <a:ext cx="692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400" spc="-1" strike="noStrike">
              <a:solidFill>
                <a:srgbClr val="262626"/>
              </a:solidFill>
              <a:latin typeface="Calibri Light"/>
              <a:ea typeface="맑은 고딕"/>
            </a:endParaRPr>
          </a:p>
        </p:txBody>
      </p:sp>
      <p:pic>
        <p:nvPicPr>
          <p:cNvPr id="219" name="Picture 4" descr="retrograde"/>
          <p:cNvPicPr/>
          <p:nvPr/>
        </p:nvPicPr>
        <p:blipFill>
          <a:blip r:embed="rId2"/>
          <a:stretch/>
        </p:blipFill>
        <p:spPr>
          <a:xfrm>
            <a:off x="5421240" y="993600"/>
            <a:ext cx="2710080" cy="41976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5" descr="epicycle2"/>
          <p:cNvPicPr/>
          <p:nvPr/>
        </p:nvPicPr>
        <p:blipFill>
          <a:blip r:embed="rId3"/>
          <a:stretch/>
        </p:blipFill>
        <p:spPr>
          <a:xfrm>
            <a:off x="766800" y="566640"/>
            <a:ext cx="4078080" cy="45356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6" descr="ptolemy"/>
          <p:cNvPicPr/>
          <p:nvPr/>
        </p:nvPicPr>
        <p:blipFill>
          <a:blip r:embed="rId4"/>
          <a:stretch/>
        </p:blipFill>
        <p:spPr>
          <a:xfrm>
            <a:off x="1301760" y="819000"/>
            <a:ext cx="3144960" cy="41943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7" descr="Copernicus_Mars"/>
          <p:cNvPicPr/>
          <p:nvPr/>
        </p:nvPicPr>
        <p:blipFill>
          <a:blip r:embed="rId5"/>
          <a:stretch/>
        </p:blipFill>
        <p:spPr>
          <a:xfrm>
            <a:off x="4932360" y="819000"/>
            <a:ext cx="3141720" cy="418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87080" y="5417640"/>
            <a:ext cx="8085240" cy="614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ffff"/>
                </a:solidFill>
                <a:latin typeface="Calibri Light"/>
                <a:ea typeface="맑은 고딕"/>
              </a:rPr>
              <a:t>내행성의 최대이각</a:t>
            </a:r>
            <a:endParaRPr b="0" lang="en-US" sz="3600" spc="-1" strike="noStrike">
              <a:solidFill>
                <a:srgbClr val="50b4c8"/>
              </a:solidFill>
              <a:latin typeface="Calibri Light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33088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7600" y="5910120"/>
            <a:ext cx="692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400" spc="-1" strike="noStrike">
              <a:solidFill>
                <a:srgbClr val="262626"/>
              </a:solidFill>
              <a:latin typeface="Calibri Light"/>
              <a:ea typeface="맑은 고딕"/>
            </a:endParaRPr>
          </a:p>
        </p:txBody>
      </p:sp>
      <p:pic>
        <p:nvPicPr>
          <p:cNvPr id="226" name="Picture 5" descr="maximum"/>
          <p:cNvPicPr/>
          <p:nvPr/>
        </p:nvPicPr>
        <p:blipFill>
          <a:blip r:embed="rId2"/>
          <a:stretch/>
        </p:blipFill>
        <p:spPr>
          <a:xfrm>
            <a:off x="0" y="847800"/>
            <a:ext cx="9144000" cy="4213080"/>
          </a:xfrm>
          <a:prstGeom prst="rect">
            <a:avLst/>
          </a:prstGeom>
          <a:ln w="0">
            <a:noFill/>
          </a:ln>
        </p:spPr>
      </p:pic>
      <p:sp>
        <p:nvSpPr>
          <p:cNvPr id="227" name="TextBox 6"/>
          <p:cNvSpPr/>
          <p:nvPr/>
        </p:nvSpPr>
        <p:spPr>
          <a:xfrm>
            <a:off x="1368360" y="847800"/>
            <a:ext cx="189540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Georgia"/>
                <a:ea typeface="맑은 고딕"/>
              </a:rPr>
              <a:t>프톨레마이오스</a:t>
            </a: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8" name="TextBox 7"/>
          <p:cNvSpPr/>
          <p:nvPr/>
        </p:nvSpPr>
        <p:spPr>
          <a:xfrm>
            <a:off x="6502320" y="847800"/>
            <a:ext cx="165420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Georgia"/>
                <a:ea typeface="맑은 고딕"/>
              </a:rPr>
              <a:t>코페르니쿠스</a:t>
            </a: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직선 연결선 7"/>
          <p:cNvSpPr/>
          <p:nvPr/>
        </p:nvSpPr>
        <p:spPr>
          <a:xfrm flipH="1">
            <a:off x="479160" y="2971800"/>
            <a:ext cx="1306440" cy="0"/>
          </a:xfrm>
          <a:prstGeom prst="line">
            <a:avLst/>
          </a:prstGeom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87080" y="5417640"/>
            <a:ext cx="8085240" cy="614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Calibri Light"/>
                <a:ea typeface="맑은 고딕"/>
              </a:rPr>
              <a:t>행성 궤도의 크기와 순서의 확정</a:t>
            </a:r>
            <a:endParaRPr b="0" lang="en-US" sz="3200" spc="-1" strike="noStrike">
              <a:solidFill>
                <a:srgbClr val="50b4c8"/>
              </a:solidFill>
              <a:latin typeface="Calibri Light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33088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7600" y="5910120"/>
            <a:ext cx="692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400" spc="-1" strike="noStrike">
              <a:solidFill>
                <a:srgbClr val="262626"/>
              </a:solidFill>
              <a:latin typeface="Calibri Light"/>
              <a:ea typeface="맑은 고딕"/>
            </a:endParaRPr>
          </a:p>
        </p:txBody>
      </p:sp>
      <p:pic>
        <p:nvPicPr>
          <p:cNvPr id="233" name="Picture 4" descr="Copernicus distance"/>
          <p:cNvPicPr/>
          <p:nvPr/>
        </p:nvPicPr>
        <p:blipFill>
          <a:blip r:embed="rId2"/>
          <a:stretch/>
        </p:blipFill>
        <p:spPr>
          <a:xfrm>
            <a:off x="66600" y="217440"/>
            <a:ext cx="8979120" cy="470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직사각형 10"/>
          <p:cNvSpPr/>
          <p:nvPr/>
        </p:nvSpPr>
        <p:spPr>
          <a:xfrm>
            <a:off x="0" y="0"/>
            <a:ext cx="5715000" cy="685800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195600" y="542520"/>
            <a:ext cx="2536920" cy="19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Calibri Light"/>
                <a:ea typeface="맑은 고딕"/>
              </a:rPr>
              <a:t>단순성과 조화</a:t>
            </a:r>
            <a:endParaRPr b="0" lang="en-US" sz="2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71680" y="762120"/>
            <a:ext cx="4572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0360" indent="-90360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07120" y="2511000"/>
            <a:ext cx="2549520" cy="312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500" spc="-1" strike="noStrike">
                <a:solidFill>
                  <a:srgbClr val="404040"/>
                </a:solidFill>
                <a:latin typeface="Calibri Light"/>
                <a:ea typeface="맑은 고딕"/>
              </a:rPr>
              <a:t>이미 알고 있었던 것에 대한 새로운 설명들</a:t>
            </a:r>
            <a:endParaRPr b="0" lang="en-US" sz="1500" spc="-1" strike="noStrike">
              <a:solidFill>
                <a:srgbClr val="262626"/>
              </a:solidFill>
              <a:latin typeface="Calibri Light"/>
            </a:endParaRPr>
          </a:p>
        </p:txBody>
      </p:sp>
      <p:pic>
        <p:nvPicPr>
          <p:cNvPr id="238" name="Picture 2" descr="http://zebu.uoregon.edu/~soper/Orbits/marsorbit.gif"/>
          <p:cNvPicPr/>
          <p:nvPr/>
        </p:nvPicPr>
        <p:blipFill>
          <a:blip r:embed="rId1"/>
          <a:stretch/>
        </p:blipFill>
        <p:spPr>
          <a:xfrm>
            <a:off x="0" y="1676520"/>
            <a:ext cx="57150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87080" y="5417640"/>
            <a:ext cx="8085240" cy="614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Calibri Light"/>
                <a:ea typeface="맑은 고딕"/>
              </a:rPr>
              <a:t>수정체 천구에 대한 믿음</a:t>
            </a:r>
            <a:endParaRPr b="0" lang="en-US" sz="2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7600" y="5910120"/>
            <a:ext cx="692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400" spc="-1" strike="noStrike">
              <a:solidFill>
                <a:srgbClr val="262626"/>
              </a:solidFill>
              <a:latin typeface="Calibri Light"/>
              <a:ea typeface="맑은 고딕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33088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5" descr="Scan0001"/>
          <p:cNvPicPr/>
          <p:nvPr/>
        </p:nvPicPr>
        <p:blipFill>
          <a:blip r:embed="rId2"/>
          <a:stretch/>
        </p:blipFill>
        <p:spPr>
          <a:xfrm>
            <a:off x="957240" y="326880"/>
            <a:ext cx="6989760" cy="45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직사각형 2"/>
          <p:cNvSpPr/>
          <p:nvPr/>
        </p:nvSpPr>
        <p:spPr>
          <a:xfrm>
            <a:off x="0" y="0"/>
            <a:ext cx="5703840" cy="685800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195600" y="542520"/>
            <a:ext cx="2536920" cy="19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Calibri Light"/>
                <a:ea typeface="맑은 고딕"/>
              </a:rPr>
              <a:t>여전히 복잡한 </a:t>
            </a:r>
            <a:br>
              <a:rPr sz="2800"/>
            </a:br>
            <a:r>
              <a:rPr b="0" lang="ko-KR" sz="2800" spc="-1" strike="noStrike">
                <a:solidFill>
                  <a:srgbClr val="ffffff"/>
                </a:solidFill>
                <a:latin typeface="Calibri Light"/>
                <a:ea typeface="맑은 고딕"/>
              </a:rPr>
              <a:t>코페르니쿠스 체계</a:t>
            </a:r>
            <a:endParaRPr b="0" lang="en-US" sz="2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71680" y="762120"/>
            <a:ext cx="4572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0360" indent="-90360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207120" y="2511000"/>
            <a:ext cx="2549520" cy="312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500" spc="-1" strike="noStrike">
                <a:solidFill>
                  <a:srgbClr val="404040"/>
                </a:solidFill>
                <a:latin typeface="Calibri Light"/>
                <a:ea typeface="맑은 고딕"/>
              </a:rPr>
              <a:t>여전히 행성의 운동은 원운동의 합성</a:t>
            </a:r>
            <a:r>
              <a:rPr b="0" lang="en-US" sz="1500" spc="-1" strike="noStrike">
                <a:solidFill>
                  <a:srgbClr val="404040"/>
                </a:solidFill>
                <a:latin typeface="Calibri Light"/>
                <a:ea typeface="맑은 고딕"/>
              </a:rPr>
              <a:t>. </a:t>
            </a:r>
            <a:r>
              <a:rPr b="0" lang="ko-KR" sz="1500" spc="-1" strike="noStrike">
                <a:solidFill>
                  <a:srgbClr val="404040"/>
                </a:solidFill>
                <a:latin typeface="Calibri Light"/>
                <a:ea typeface="맑은 고딕"/>
              </a:rPr>
              <a:t>프톨레마이오스 체계보다 큰 정확도 향상 없음</a:t>
            </a:r>
            <a:endParaRPr b="0" lang="en-US" sz="1500" spc="-1" strike="noStrike">
              <a:solidFill>
                <a:srgbClr val="262626"/>
              </a:solidFill>
              <a:latin typeface="Calibri Light"/>
            </a:endParaRPr>
          </a:p>
          <a:p>
            <a:pPr marL="442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262626"/>
              </a:solidFill>
              <a:latin typeface="Calibri Light"/>
            </a:endParaRPr>
          </a:p>
        </p:txBody>
      </p:sp>
      <p:pic>
        <p:nvPicPr>
          <p:cNvPr id="247" name="Picture 4" descr="cop-sys-bb"/>
          <p:cNvPicPr/>
          <p:nvPr/>
        </p:nvPicPr>
        <p:blipFill>
          <a:blip r:embed="rId1"/>
          <a:stretch/>
        </p:blipFill>
        <p:spPr>
          <a:xfrm>
            <a:off x="114480" y="838080"/>
            <a:ext cx="547524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직사각형 4"/>
          <p:cNvSpPr/>
          <p:nvPr/>
        </p:nvSpPr>
        <p:spPr>
          <a:xfrm>
            <a:off x="0" y="1938240"/>
            <a:ext cx="9144000" cy="4919760"/>
          </a:xfrm>
          <a:prstGeom prst="rect">
            <a:avLst/>
          </a:prstGeom>
          <a:solidFill>
            <a:srgbClr val="50b4c8"/>
          </a:solidFill>
          <a:ln w="12600">
            <a:solidFill>
              <a:srgbClr val="3883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50b4c8"/>
                </a:solidFill>
                <a:latin typeface="Calibri Light"/>
                <a:ea typeface="맑은 고딕"/>
              </a:rPr>
              <a:t>당대의 반응</a:t>
            </a: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06520" y="2503440"/>
            <a:ext cx="8066160" cy="325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0360" indent="-90360">
              <a:lnSpc>
                <a:spcPct val="85000"/>
              </a:lnSpc>
              <a:spcBef>
                <a:spcPts val="1301"/>
              </a:spcBef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  <a:ea typeface="맑은 고딕"/>
              </a:rPr>
              <a:t>“</a:t>
            </a:r>
            <a:r>
              <a:rPr b="0" lang="ko-KR" sz="2400" spc="-1" strike="noStrike">
                <a:solidFill>
                  <a:srgbClr val="ffffff"/>
                </a:solidFill>
                <a:latin typeface="Calibri Light"/>
                <a:ea typeface="맑은 고딕"/>
              </a:rPr>
              <a:t>지구가</a:t>
            </a:r>
            <a:r>
              <a:rPr b="0" lang="en-US" sz="2400" spc="-1" strike="noStrike">
                <a:solidFill>
                  <a:srgbClr val="ffffff"/>
                </a:solidFill>
                <a:latin typeface="Calibri Light"/>
                <a:ea typeface="맑은 고딕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Calibri Light"/>
                <a:ea typeface="맑은 고딕"/>
              </a:rPr>
              <a:t>돈다니 말도 안됨</a:t>
            </a:r>
            <a:r>
              <a:rPr b="0" lang="en-US" sz="2400" spc="-1" strike="noStrike">
                <a:solidFill>
                  <a:srgbClr val="ffffff"/>
                </a:solidFill>
                <a:latin typeface="Calibri Light"/>
                <a:ea typeface="맑은 고딕"/>
              </a:rPr>
              <a:t>”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marL="90360" indent="-90360">
              <a:lnSpc>
                <a:spcPct val="85000"/>
              </a:lnSpc>
              <a:spcBef>
                <a:spcPts val="1301"/>
              </a:spcBef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  <a:ea typeface="맑은 고딕"/>
              </a:rPr>
              <a:t>“</a:t>
            </a:r>
            <a:r>
              <a:rPr b="0" lang="ko-KR" sz="2400" spc="-1" strike="noStrike">
                <a:solidFill>
                  <a:srgbClr val="ffffff"/>
                </a:solidFill>
                <a:latin typeface="Calibri Light"/>
                <a:ea typeface="맑은 고딕"/>
              </a:rPr>
              <a:t>제</a:t>
            </a:r>
            <a:r>
              <a:rPr b="0" lang="en-US" sz="2400" spc="-1" strike="noStrike">
                <a:solidFill>
                  <a:srgbClr val="ffffff"/>
                </a:solidFill>
                <a:latin typeface="Calibri Light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ffffff"/>
                </a:solidFill>
                <a:latin typeface="Calibri Light"/>
                <a:ea typeface="맑은 고딕"/>
              </a:rPr>
              <a:t>의 프톨레마이오스</a:t>
            </a:r>
            <a:r>
              <a:rPr b="0" lang="en-US" sz="2400" spc="-1" strike="noStrike">
                <a:solidFill>
                  <a:srgbClr val="ffffff"/>
                </a:solidFill>
                <a:latin typeface="Calibri Light"/>
                <a:ea typeface="맑은 고딕"/>
              </a:rPr>
              <a:t>”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marL="90360" indent="-90360">
              <a:lnSpc>
                <a:spcPct val="85000"/>
              </a:lnSpc>
              <a:spcBef>
                <a:spcPts val="1301"/>
              </a:spcBef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  <a:ea typeface="맑은 고딕"/>
              </a:rPr>
              <a:t>“</a:t>
            </a:r>
            <a:r>
              <a:rPr b="0" lang="ko-KR" sz="2400" spc="-1" strike="noStrike">
                <a:solidFill>
                  <a:srgbClr val="ffffff"/>
                </a:solidFill>
                <a:latin typeface="Calibri Light"/>
                <a:ea typeface="맑은 고딕"/>
              </a:rPr>
              <a:t>지구가 도는 것처럼 가정하면 계산이 편리하긴 함</a:t>
            </a:r>
            <a:r>
              <a:rPr b="0" lang="en-US" sz="2400" spc="-1" strike="noStrike">
                <a:solidFill>
                  <a:srgbClr val="ffffff"/>
                </a:solidFill>
                <a:latin typeface="Calibri Light"/>
                <a:ea typeface="맑은 고딕"/>
              </a:rPr>
              <a:t>”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195600" y="542520"/>
            <a:ext cx="2536920" cy="19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Calibri Light"/>
                <a:ea typeface="맑은 고딕"/>
              </a:rPr>
              <a:t>연주시차의 관측 실패</a:t>
            </a:r>
            <a:endParaRPr b="0" lang="en-US" sz="32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571680" y="762120"/>
            <a:ext cx="4572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0360" indent="-90360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207120" y="2742840"/>
            <a:ext cx="254952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500" spc="-1" strike="noStrike">
                <a:solidFill>
                  <a:srgbClr val="404040"/>
                </a:solidFill>
                <a:latin typeface="Calibri Light"/>
                <a:ea typeface="맑은 고딕"/>
              </a:rPr>
              <a:t>태양중심설에 대한 반증</a:t>
            </a:r>
            <a:r>
              <a:rPr b="0" lang="en-US" sz="1500" spc="-1" strike="noStrike">
                <a:solidFill>
                  <a:srgbClr val="404040"/>
                </a:solidFill>
                <a:latin typeface="Calibri Light"/>
                <a:ea typeface="맑은 고딕"/>
              </a:rPr>
              <a:t>?</a:t>
            </a:r>
            <a:endParaRPr b="0" lang="en-US" sz="1500" spc="-1" strike="noStrike">
              <a:solidFill>
                <a:srgbClr val="262626"/>
              </a:solidFill>
              <a:latin typeface="Calibri Light"/>
            </a:endParaRPr>
          </a:p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500" spc="-1" strike="noStrike">
                <a:solidFill>
                  <a:srgbClr val="404040"/>
                </a:solidFill>
                <a:latin typeface="Calibri Light"/>
                <a:ea typeface="맑은 고딕"/>
              </a:rPr>
              <a:t>광활한 우주</a:t>
            </a:r>
            <a:r>
              <a:rPr b="0" lang="en-US" sz="1500" spc="-1" strike="noStrike">
                <a:solidFill>
                  <a:srgbClr val="404040"/>
                </a:solidFill>
                <a:latin typeface="Calibri Light"/>
                <a:ea typeface="맑은 고딕"/>
              </a:rPr>
              <a:t>?</a:t>
            </a:r>
            <a:endParaRPr b="0" lang="en-US" sz="1500" spc="-1" strike="noStrike">
              <a:solidFill>
                <a:srgbClr val="262626"/>
              </a:solidFill>
              <a:latin typeface="Calibri Light"/>
            </a:endParaRPr>
          </a:p>
        </p:txBody>
      </p:sp>
      <p:pic>
        <p:nvPicPr>
          <p:cNvPr id="254" name="Picture 2" descr="http://www.astro.lu.se/~anna/teaching/parallax/parallax.JPG"/>
          <p:cNvPicPr/>
          <p:nvPr/>
        </p:nvPicPr>
        <p:blipFill>
          <a:blip r:embed="rId1"/>
          <a:stretch/>
        </p:blipFill>
        <p:spPr>
          <a:xfrm>
            <a:off x="318960" y="479520"/>
            <a:ext cx="5243760" cy="56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195600" y="542520"/>
            <a:ext cx="2536920" cy="19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Calibri Light"/>
                <a:ea typeface="맑은 고딕"/>
              </a:rPr>
              <a:t>고대의 우주론</a:t>
            </a:r>
            <a:endParaRPr b="0" lang="en-US" sz="2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571680" y="762120"/>
            <a:ext cx="4572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0360" indent="-90360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207120" y="2511000"/>
            <a:ext cx="2549520" cy="312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500" spc="-1" strike="noStrike">
                <a:solidFill>
                  <a:srgbClr val="404040"/>
                </a:solidFill>
                <a:latin typeface="Calibri Light"/>
                <a:ea typeface="맑은 고딕"/>
              </a:rPr>
              <a:t>영원한 등속 원운동</a:t>
            </a:r>
            <a:endParaRPr b="0" lang="en-US" sz="1500" spc="-1" strike="noStrike">
              <a:solidFill>
                <a:srgbClr val="262626"/>
              </a:solidFill>
              <a:latin typeface="Calibri Light"/>
            </a:endParaRPr>
          </a:p>
        </p:txBody>
      </p:sp>
      <p:pic>
        <p:nvPicPr>
          <p:cNvPr id="180" name="Picture 3" descr="플라톤 천구"/>
          <p:cNvPicPr/>
          <p:nvPr/>
        </p:nvPicPr>
        <p:blipFill>
          <a:blip r:embed="rId1"/>
          <a:stretch/>
        </p:blipFill>
        <p:spPr>
          <a:xfrm>
            <a:off x="576360" y="1031760"/>
            <a:ext cx="4535280" cy="436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87080" y="5417640"/>
            <a:ext cx="8085240" cy="614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Calibri Light"/>
                <a:ea typeface="맑은 고딕"/>
              </a:rPr>
              <a:t>티코의 절충적 지구 중심 체계</a:t>
            </a:r>
            <a:endParaRPr b="0" lang="en-US" sz="2800" spc="-1" strike="noStrike">
              <a:solidFill>
                <a:srgbClr val="50b4c8"/>
              </a:solidFill>
              <a:latin typeface="Calibri Light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33088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7600" y="5910120"/>
            <a:ext cx="692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400" spc="-1" strike="noStrike">
              <a:solidFill>
                <a:srgbClr val="262626"/>
              </a:solidFill>
              <a:latin typeface="Calibri Light"/>
              <a:ea typeface="맑은 고딕"/>
            </a:endParaRPr>
          </a:p>
        </p:txBody>
      </p:sp>
      <p:pic>
        <p:nvPicPr>
          <p:cNvPr id="258" name="Picture 4" descr="tycho"/>
          <p:cNvPicPr/>
          <p:nvPr/>
        </p:nvPicPr>
        <p:blipFill>
          <a:blip r:embed="rId2"/>
          <a:stretch/>
        </p:blipFill>
        <p:spPr>
          <a:xfrm>
            <a:off x="304920" y="243000"/>
            <a:ext cx="3384360" cy="47368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3" descr="Scan0044"/>
          <p:cNvPicPr/>
          <p:nvPr/>
        </p:nvPicPr>
        <p:blipFill>
          <a:blip r:embed="rId3"/>
          <a:srcRect l="0" t="3571" r="2532" b="5952"/>
          <a:stretch/>
        </p:blipFill>
        <p:spPr>
          <a:xfrm>
            <a:off x="3951360" y="243000"/>
            <a:ext cx="4805280" cy="47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87080" y="5417640"/>
            <a:ext cx="8085240" cy="614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Calibri Light"/>
                <a:ea typeface="맑은 고딕"/>
              </a:rPr>
              <a:t>티코 체계에 대한 당대의 반응</a:t>
            </a:r>
            <a:endParaRPr b="0" lang="en-US" sz="2800" spc="-1" strike="noStrike">
              <a:solidFill>
                <a:srgbClr val="50b4c8"/>
              </a:solidFill>
              <a:latin typeface="Calibri Light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33088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07600" y="5910120"/>
            <a:ext cx="692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400" spc="-1" strike="noStrike">
              <a:solidFill>
                <a:srgbClr val="262626"/>
              </a:solidFill>
              <a:latin typeface="Calibri Light"/>
              <a:ea typeface="맑은 고딕"/>
            </a:endParaRPr>
          </a:p>
        </p:txBody>
      </p:sp>
      <p:pic>
        <p:nvPicPr>
          <p:cNvPr id="263" name="Picture 4" descr="almagestum_novum_detail"/>
          <p:cNvPicPr/>
          <p:nvPr/>
        </p:nvPicPr>
        <p:blipFill>
          <a:blip r:embed="rId2"/>
          <a:stretch/>
        </p:blipFill>
        <p:spPr>
          <a:xfrm>
            <a:off x="755640" y="227160"/>
            <a:ext cx="3133800" cy="49957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5" descr="4l2138d"/>
          <p:cNvPicPr/>
          <p:nvPr/>
        </p:nvPicPr>
        <p:blipFill>
          <a:blip r:embed="rId3"/>
          <a:stretch/>
        </p:blipFill>
        <p:spPr>
          <a:xfrm>
            <a:off x="4218120" y="155520"/>
            <a:ext cx="423684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87080" y="5417640"/>
            <a:ext cx="8085240" cy="614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Calibri Light"/>
                <a:ea typeface="맑은 고딕"/>
              </a:rPr>
              <a:t>케플러 </a:t>
            </a:r>
            <a:r>
              <a:rPr b="0" lang="en-US" sz="3200" spc="-1" strike="noStrike">
                <a:solidFill>
                  <a:srgbClr val="ffffff"/>
                </a:solidFill>
                <a:latin typeface="Calibri Light"/>
                <a:ea typeface="맑은 고딕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Calibri Light"/>
                <a:ea typeface="맑은 고딕"/>
              </a:rPr>
              <a:t>정확성을 위해서는 원을 버려야</a:t>
            </a:r>
            <a:r>
              <a:rPr b="0" lang="en-US" sz="3200" spc="-1" strike="noStrike">
                <a:solidFill>
                  <a:srgbClr val="ffffff"/>
                </a:solidFill>
                <a:latin typeface="Calibri Light"/>
                <a:ea typeface="맑은 고딕"/>
              </a:rPr>
              <a:t>!</a:t>
            </a:r>
            <a:endParaRPr b="0" lang="en-US" sz="3200" spc="-1" strike="noStrike">
              <a:solidFill>
                <a:srgbClr val="50b4c8"/>
              </a:solidFill>
              <a:latin typeface="Calibri Light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33088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07600" y="5910120"/>
            <a:ext cx="692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400" spc="-1" strike="noStrike">
              <a:solidFill>
                <a:srgbClr val="262626"/>
              </a:solidFill>
              <a:latin typeface="Calibri Light"/>
              <a:ea typeface="맑은 고딕"/>
            </a:endParaRPr>
          </a:p>
        </p:txBody>
      </p:sp>
      <p:pic>
        <p:nvPicPr>
          <p:cNvPr id="268" name="Picture 4" descr="keplerlaw"/>
          <p:cNvPicPr/>
          <p:nvPr/>
        </p:nvPicPr>
        <p:blipFill>
          <a:blip r:embed="rId2"/>
          <a:srcRect l="4787" t="2268" r="12724" b="2457"/>
          <a:stretch/>
        </p:blipFill>
        <p:spPr>
          <a:xfrm>
            <a:off x="3708360" y="1073160"/>
            <a:ext cx="4861080" cy="374508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4" descr="kepler"/>
          <p:cNvPicPr/>
          <p:nvPr/>
        </p:nvPicPr>
        <p:blipFill>
          <a:blip r:embed="rId3"/>
          <a:stretch/>
        </p:blipFill>
        <p:spPr>
          <a:xfrm>
            <a:off x="546120" y="1073160"/>
            <a:ext cx="299088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50b4c8"/>
                </a:solidFill>
                <a:latin typeface="Calibri Light"/>
                <a:ea typeface="맑은 고딕"/>
              </a:rPr>
              <a:t>질문</a:t>
            </a: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506520" y="1993680"/>
            <a:ext cx="8066160" cy="376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1301"/>
              </a:spcBef>
              <a:buClr>
                <a:srgbClr val="262626"/>
              </a:buClr>
              <a:buFont typeface="Calibri Ligh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62626"/>
                </a:solidFill>
                <a:latin typeface="Calibri Light"/>
                <a:ea typeface="맑은 고딕"/>
              </a:rPr>
              <a:t>일시적인 불일치로 보이던 것을 피할 수 없는 충돌로 변화시킨 것은 무엇일까</a:t>
            </a:r>
            <a:r>
              <a:rPr b="0" lang="en-US" sz="2400" spc="-1" strike="noStrike">
                <a:solidFill>
                  <a:srgbClr val="262626"/>
                </a:solidFill>
                <a:latin typeface="Calibri Light"/>
                <a:ea typeface="맑은 고딕"/>
              </a:rPr>
              <a:t>?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marL="457200" indent="-457200">
              <a:lnSpc>
                <a:spcPct val="100000"/>
              </a:lnSpc>
              <a:spcBef>
                <a:spcPts val="1301"/>
              </a:spcBef>
              <a:buClr>
                <a:srgbClr val="262626"/>
              </a:buClr>
              <a:buFont typeface="Calibri Ligh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62626"/>
                </a:solidFill>
                <a:latin typeface="Calibri Light"/>
                <a:ea typeface="맑은 고딕"/>
              </a:rPr>
              <a:t>코페르니쿠스가 가졌던 보수적인 생각과 혁신적인 생각을 구분해보자</a:t>
            </a:r>
            <a:r>
              <a:rPr b="0" lang="en-US" sz="2400" spc="-1" strike="noStrike">
                <a:solidFill>
                  <a:srgbClr val="262626"/>
                </a:solidFill>
                <a:latin typeface="Calibri Light"/>
                <a:ea typeface="맑은 고딕"/>
              </a:rPr>
              <a:t>.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marL="457200" indent="-457200">
              <a:lnSpc>
                <a:spcPct val="100000"/>
              </a:lnSpc>
              <a:spcBef>
                <a:spcPts val="1301"/>
              </a:spcBef>
              <a:buClr>
                <a:srgbClr val="262626"/>
              </a:buClr>
              <a:buFont typeface="Calibri Ligh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62626"/>
                </a:solidFill>
                <a:latin typeface="Calibri Light"/>
                <a:ea typeface="맑은 고딕"/>
              </a:rPr>
              <a:t>코페르니쿠스가 쓰고 있던 </a:t>
            </a:r>
            <a:r>
              <a:rPr b="0" lang="en-US" sz="2400" spc="-1" strike="noStrike">
                <a:solidFill>
                  <a:srgbClr val="262626"/>
                </a:solidFill>
                <a:latin typeface="Calibri Light"/>
                <a:ea typeface="맑은 고딕"/>
              </a:rPr>
              <a:t>‘</a:t>
            </a:r>
            <a:r>
              <a:rPr b="0" lang="ko-KR" sz="2400" spc="-1" strike="noStrike">
                <a:solidFill>
                  <a:srgbClr val="262626"/>
                </a:solidFill>
                <a:latin typeface="Calibri Light"/>
                <a:ea typeface="맑은 고딕"/>
              </a:rPr>
              <a:t>눈가리개</a:t>
            </a:r>
            <a:r>
              <a:rPr b="0" lang="en-US" sz="2400" spc="-1" strike="noStrike">
                <a:solidFill>
                  <a:srgbClr val="262626"/>
                </a:solidFill>
                <a:latin typeface="Calibri Light"/>
                <a:ea typeface="맑은 고딕"/>
              </a:rPr>
              <a:t>’</a:t>
            </a:r>
            <a:r>
              <a:rPr b="0" lang="ko-KR" sz="2400" spc="-1" strike="noStrike">
                <a:solidFill>
                  <a:srgbClr val="262626"/>
                </a:solidFill>
                <a:latin typeface="Calibri Light"/>
                <a:ea typeface="맑은 고딕"/>
              </a:rPr>
              <a:t>란 무엇이며</a:t>
            </a:r>
            <a:r>
              <a:rPr b="0" lang="en-US" sz="2400" spc="-1" strike="noStrike">
                <a:solidFill>
                  <a:srgbClr val="262626"/>
                </a:solidFill>
                <a:latin typeface="Calibri Light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262626"/>
                </a:solidFill>
                <a:latin typeface="Calibri Light"/>
                <a:ea typeface="맑은 고딕"/>
              </a:rPr>
              <a:t>그것은 천문학의 혁명에 어떤 역할을 했을까</a:t>
            </a:r>
            <a:r>
              <a:rPr b="0" lang="en-US" sz="2400" spc="-1" strike="noStrike">
                <a:solidFill>
                  <a:srgbClr val="262626"/>
                </a:solidFill>
                <a:latin typeface="Calibri Light"/>
                <a:ea typeface="맑은 고딕"/>
              </a:rPr>
              <a:t>?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marL="457200" indent="-457200">
              <a:lnSpc>
                <a:spcPct val="100000"/>
              </a:lnSpc>
              <a:spcBef>
                <a:spcPts val="1301"/>
              </a:spcBef>
              <a:buClr>
                <a:srgbClr val="262626"/>
              </a:buClr>
              <a:buFont typeface="Calibri Ligh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62626"/>
                </a:solidFill>
                <a:latin typeface="Calibri Light"/>
                <a:ea typeface="맑은 고딕"/>
              </a:rPr>
              <a:t>태양중심설을 주장했던 과거의 다른 학자들과 코페르니쿠스 사이의 차이점은 무엇인가</a:t>
            </a:r>
            <a:r>
              <a:rPr b="0" lang="en-US" sz="2400" spc="-1" strike="noStrike">
                <a:solidFill>
                  <a:srgbClr val="262626"/>
                </a:solidFill>
                <a:latin typeface="Calibri Light"/>
                <a:ea typeface="맑은 고딕"/>
              </a:rPr>
              <a:t>?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marL="457200" indent="-457200">
              <a:lnSpc>
                <a:spcPct val="100000"/>
              </a:lnSpc>
              <a:spcBef>
                <a:spcPts val="1301"/>
              </a:spcBef>
              <a:buClr>
                <a:srgbClr val="262626"/>
              </a:buClr>
              <a:buFont typeface="Calibri Ligh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195600" y="542520"/>
            <a:ext cx="2536920" cy="19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Calibri Light"/>
                <a:ea typeface="맑은 고딕"/>
              </a:rPr>
              <a:t>상세한 우주</a:t>
            </a:r>
            <a:endParaRPr b="0" lang="en-US" sz="2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207120" y="2511000"/>
            <a:ext cx="2549520" cy="31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500" spc="-1" strike="noStrike">
              <a:solidFill>
                <a:srgbClr val="404040"/>
              </a:solidFill>
              <a:latin typeface="Calibri Light"/>
              <a:ea typeface="맑은 고딕"/>
            </a:endParaRPr>
          </a:p>
        </p:txBody>
      </p:sp>
      <p:pic>
        <p:nvPicPr>
          <p:cNvPr id="183" name="Picture 2" descr="http://abyss.uoregon.edu/~js/images/aristotelian_cosmo.gif"/>
          <p:cNvPicPr/>
          <p:nvPr/>
        </p:nvPicPr>
        <p:blipFill>
          <a:blip r:embed="rId1"/>
          <a:stretch/>
        </p:blipFill>
        <p:spPr>
          <a:xfrm>
            <a:off x="324000" y="762120"/>
            <a:ext cx="5116320" cy="53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87080" y="5417640"/>
            <a:ext cx="8085240" cy="614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Calibri Light"/>
                <a:ea typeface="맑은 고딕"/>
              </a:rPr>
              <a:t>우주의 골칫거리 행성</a:t>
            </a:r>
            <a:r>
              <a:rPr b="0" lang="en-US" sz="3200" spc="-1" strike="noStrike">
                <a:solidFill>
                  <a:srgbClr val="ffffff"/>
                </a:solidFill>
                <a:latin typeface="Calibri Light"/>
                <a:ea typeface="맑은 고딕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Calibri Light"/>
                <a:ea typeface="맑은 고딕"/>
              </a:rPr>
              <a:t>떠돌이별</a:t>
            </a:r>
            <a:r>
              <a:rPr b="0" lang="en-US" sz="3200" spc="-1" strike="noStrike">
                <a:solidFill>
                  <a:srgbClr val="ffffff"/>
                </a:solidFill>
                <a:latin typeface="Calibri Light"/>
                <a:ea typeface="맑은 고딕"/>
              </a:rPr>
              <a:t>)</a:t>
            </a:r>
            <a:endParaRPr b="0" lang="en-US" sz="3200" spc="-1" strike="noStrike">
              <a:solidFill>
                <a:srgbClr val="50b4c8"/>
              </a:solidFill>
              <a:latin typeface="Calibri Light"/>
            </a:endParaRPr>
          </a:p>
        </p:txBody>
      </p:sp>
      <p:pic>
        <p:nvPicPr>
          <p:cNvPr id="185" name="Picture 2" descr="http://phyux2.ks.ac.kr/ymp/data/others/universe_of_man/universe/cel-sphere/mars_ret.gif"/>
          <p:cNvPicPr/>
          <p:nvPr/>
        </p:nvPicPr>
        <p:blipFill>
          <a:blip r:embed="rId1"/>
          <a:srcRect l="0" t="3667" r="0" b="3667"/>
          <a:stretch/>
        </p:blipFill>
        <p:spPr>
          <a:xfrm>
            <a:off x="0" y="0"/>
            <a:ext cx="9144000" cy="533088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07600" y="5910120"/>
            <a:ext cx="692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400" spc="-1" strike="noStrike">
              <a:solidFill>
                <a:srgbClr val="262626"/>
              </a:solidFill>
              <a:latin typeface="Calibri Light"/>
              <a:ea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87080" y="5417640"/>
            <a:ext cx="8085240" cy="614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Calibri Light"/>
                <a:ea typeface="맑은 고딕"/>
              </a:rPr>
              <a:t>토성의 운동</a:t>
            </a:r>
            <a:endParaRPr b="0" lang="en-US" sz="2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7600" y="5910120"/>
            <a:ext cx="692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400" spc="-1" strike="noStrike">
              <a:solidFill>
                <a:srgbClr val="262626"/>
              </a:solidFill>
              <a:latin typeface="Calibri Light"/>
              <a:ea typeface="맑은 고딕"/>
            </a:endParaRPr>
          </a:p>
        </p:txBody>
      </p:sp>
      <p:pic>
        <p:nvPicPr>
          <p:cNvPr id="189" name="Picture 10" descr="3_years_of_saturn"/>
          <p:cNvPicPr/>
          <p:nvPr/>
        </p:nvPicPr>
        <p:blipFill>
          <a:blip r:embed="rId1"/>
          <a:srcRect l="0" t="1877" r="0" b="1877"/>
          <a:stretch/>
        </p:blipFill>
        <p:spPr>
          <a:xfrm>
            <a:off x="0" y="0"/>
            <a:ext cx="9144000" cy="53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195600" y="542520"/>
            <a:ext cx="2536920" cy="19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Calibri Light"/>
                <a:ea typeface="맑은 고딕"/>
              </a:rPr>
              <a:t>프톨레마이오스의 수리 행성 천문학</a:t>
            </a:r>
            <a:endParaRPr b="0" lang="en-US" sz="24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571680" y="762120"/>
            <a:ext cx="4572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0360" indent="-90360">
              <a:lnSpc>
                <a:spcPct val="85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262626"/>
                </a:solidFill>
                <a:latin typeface="Calibri Light"/>
                <a:ea typeface="맑은 고딕"/>
              </a:rPr>
              <a:t>행성의 복잡한 운동을 원운동의 합성으로 설명</a:t>
            </a:r>
            <a:endParaRPr b="0" lang="en-US" sz="22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07120" y="2511000"/>
            <a:ext cx="2549520" cy="312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500" spc="-1" strike="noStrike">
                <a:solidFill>
                  <a:srgbClr val="404040"/>
                </a:solidFill>
                <a:latin typeface="Calibri Light"/>
                <a:ea typeface="맑은 고딕"/>
              </a:rPr>
              <a:t>복잡한 행성의 운동을 원운동의 합성으로 설명</a:t>
            </a:r>
            <a:endParaRPr b="0" lang="en-US" sz="1500" spc="-1" strike="noStrike">
              <a:solidFill>
                <a:srgbClr val="262626"/>
              </a:solidFill>
              <a:latin typeface="Calibri Light"/>
            </a:endParaRPr>
          </a:p>
        </p:txBody>
      </p:sp>
      <p:pic>
        <p:nvPicPr>
          <p:cNvPr id="193" name="Picture 2" descr="http://upload.wikimedia.org/wikipedia/commons/0/0b/PSM_V78_D326_Ptolemy.png"/>
          <p:cNvPicPr/>
          <p:nvPr/>
        </p:nvPicPr>
        <p:blipFill>
          <a:blip r:embed="rId1"/>
          <a:stretch/>
        </p:blipFill>
        <p:spPr>
          <a:xfrm>
            <a:off x="0" y="0"/>
            <a:ext cx="5748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직사각형 3"/>
          <p:cNvSpPr/>
          <p:nvPr/>
        </p:nvSpPr>
        <p:spPr>
          <a:xfrm>
            <a:off x="0" y="0"/>
            <a:ext cx="5726160" cy="714060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195600" y="542520"/>
            <a:ext cx="2536920" cy="19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ffff"/>
                </a:solidFill>
                <a:latin typeface="Calibri Light"/>
                <a:ea typeface="맑은 고딕"/>
              </a:rPr>
              <a:t>주전원</a:t>
            </a:r>
            <a:r>
              <a:rPr b="0" lang="en-US" sz="3600" spc="-1" strike="noStrike">
                <a:solidFill>
                  <a:srgbClr val="ffffff"/>
                </a:solidFill>
                <a:latin typeface="Calibri Light"/>
                <a:ea typeface="맑은 고딕"/>
              </a:rPr>
              <a:t>(epicycle)</a:t>
            </a:r>
            <a:endParaRPr b="0" lang="en-US" sz="36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207120" y="2511000"/>
            <a:ext cx="2549520" cy="312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500" spc="-1" strike="noStrike">
                <a:solidFill>
                  <a:srgbClr val="404040"/>
                </a:solidFill>
                <a:latin typeface="Calibri Light"/>
                <a:ea typeface="맑은 고딕"/>
              </a:rPr>
              <a:t>행성의 역행운동과 </a:t>
            </a:r>
            <a:br>
              <a:rPr sz="1500"/>
            </a:br>
            <a:r>
              <a:rPr b="0" lang="ko-KR" sz="1500" spc="-1" strike="noStrike">
                <a:solidFill>
                  <a:srgbClr val="404040"/>
                </a:solidFill>
                <a:latin typeface="Calibri Light"/>
                <a:ea typeface="맑은 고딕"/>
              </a:rPr>
              <a:t>밝기 변화에 대한 설명</a:t>
            </a:r>
            <a:endParaRPr b="0" lang="en-US" sz="1500" spc="-1" strike="noStrike">
              <a:solidFill>
                <a:srgbClr val="262626"/>
              </a:solidFill>
              <a:latin typeface="Calibri Light"/>
            </a:endParaRPr>
          </a:p>
        </p:txBody>
      </p:sp>
      <p:pic>
        <p:nvPicPr>
          <p:cNvPr id="197" name="Picture 6" descr="ptolemy"/>
          <p:cNvPicPr/>
          <p:nvPr/>
        </p:nvPicPr>
        <p:blipFill>
          <a:blip r:embed="rId1"/>
          <a:stretch/>
        </p:blipFill>
        <p:spPr>
          <a:xfrm>
            <a:off x="696960" y="515880"/>
            <a:ext cx="4365720" cy="58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87080" y="5417640"/>
            <a:ext cx="8085240" cy="614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 Light"/>
                <a:ea typeface="맑은 고딕"/>
              </a:rPr>
              <a:t>epicycle (</a:t>
            </a:r>
            <a:r>
              <a:rPr b="0" lang="ko-KR" sz="2800" spc="-1" strike="noStrike">
                <a:solidFill>
                  <a:srgbClr val="ffffff"/>
                </a:solidFill>
                <a:latin typeface="Calibri Light"/>
                <a:ea typeface="맑은 고딕"/>
              </a:rPr>
              <a:t>질적 설명</a:t>
            </a:r>
            <a:r>
              <a:rPr b="0" lang="en-US" sz="2800" spc="-1" strike="noStrike">
                <a:solidFill>
                  <a:srgbClr val="ffffff"/>
                </a:solidFill>
                <a:latin typeface="Calibri Light"/>
                <a:ea typeface="맑은 고딕"/>
              </a:rPr>
              <a:t>) + eccentric &amp; equant (</a:t>
            </a:r>
            <a:r>
              <a:rPr b="0" lang="ko-KR" sz="2800" spc="-1" strike="noStrike">
                <a:solidFill>
                  <a:srgbClr val="ffffff"/>
                </a:solidFill>
                <a:latin typeface="Calibri Light"/>
                <a:ea typeface="맑은 고딕"/>
              </a:rPr>
              <a:t>미세 조정</a:t>
            </a:r>
            <a:r>
              <a:rPr b="0" lang="en-US" sz="2800" spc="-1" strike="noStrike">
                <a:solidFill>
                  <a:srgbClr val="ffffff"/>
                </a:solidFill>
                <a:latin typeface="Calibri Light"/>
                <a:ea typeface="맑은 고딕"/>
              </a:rPr>
              <a:t>)</a:t>
            </a:r>
            <a:endParaRPr b="0" lang="en-US" sz="2800" spc="-1" strike="noStrike">
              <a:solidFill>
                <a:srgbClr val="50b4c8"/>
              </a:solidFill>
              <a:latin typeface="Calibri Light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33088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7600" y="5910120"/>
            <a:ext cx="692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400" spc="-1" strike="noStrike">
              <a:solidFill>
                <a:srgbClr val="262626"/>
              </a:solidFill>
              <a:latin typeface="Calibri Light"/>
              <a:ea typeface="맑은 고딕"/>
            </a:endParaRPr>
          </a:p>
        </p:txBody>
      </p:sp>
      <p:pic>
        <p:nvPicPr>
          <p:cNvPr id="201" name="Picture 2" descr="http://www.myastrologybook.com/epicycle.gif"/>
          <p:cNvPicPr/>
          <p:nvPr/>
        </p:nvPicPr>
        <p:blipFill>
          <a:blip r:embed="rId2"/>
          <a:stretch/>
        </p:blipFill>
        <p:spPr>
          <a:xfrm>
            <a:off x="849240" y="457200"/>
            <a:ext cx="6356520" cy="47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87080" y="5417640"/>
            <a:ext cx="8085240" cy="614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Calibri Light"/>
                <a:ea typeface="맑은 고딕"/>
              </a:rPr>
              <a:t>프톨레마이오스의 복잡한 우주 체계</a:t>
            </a:r>
            <a:endParaRPr b="0" lang="en-US" sz="3000" spc="-1" strike="noStrike">
              <a:solidFill>
                <a:srgbClr val="50b4c8"/>
              </a:solidFill>
              <a:latin typeface="Calibri Light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33088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7600" y="5910120"/>
            <a:ext cx="692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400" spc="-1" strike="noStrike">
              <a:solidFill>
                <a:srgbClr val="262626"/>
              </a:solidFill>
              <a:latin typeface="Calibri Light"/>
              <a:ea typeface="맑은 고딕"/>
            </a:endParaRPr>
          </a:p>
        </p:txBody>
      </p:sp>
      <p:pic>
        <p:nvPicPr>
          <p:cNvPr id="205" name="Picture 4" descr="프톨레마이오스 우주모형"/>
          <p:cNvPicPr/>
          <p:nvPr/>
        </p:nvPicPr>
        <p:blipFill>
          <a:blip r:embed="rId2"/>
          <a:srcRect l="0" t="0" r="0" b="21991"/>
          <a:stretch/>
        </p:blipFill>
        <p:spPr>
          <a:xfrm>
            <a:off x="0" y="603360"/>
            <a:ext cx="4643280" cy="4390920"/>
          </a:xfrm>
          <a:prstGeom prst="rect">
            <a:avLst/>
          </a:prstGeom>
          <a:ln w="0">
            <a:noFill/>
          </a:ln>
        </p:spPr>
      </p:pic>
      <p:sp>
        <p:nvSpPr>
          <p:cNvPr id="206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207" name="_x113946544" descr="EMB00001f382367"/>
          <p:cNvPicPr/>
          <p:nvPr/>
        </p:nvPicPr>
        <p:blipFill>
          <a:blip r:embed="rId3"/>
          <a:stretch/>
        </p:blipFill>
        <p:spPr>
          <a:xfrm>
            <a:off x="4824360" y="603360"/>
            <a:ext cx="4319640" cy="43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8T01:35:57Z</dcterms:created>
  <dc:creator>정동욱</dc:creator>
  <dc:description/>
  <dc:language>en-US</dc:language>
  <cp:lastModifiedBy>DongWook Jung</cp:lastModifiedBy>
  <dcterms:modified xsi:type="dcterms:W3CDTF">2015-03-16T10:18:28Z</dcterms:modified>
  <cp:revision>41</cp:revision>
  <dc:subject/>
  <dc:title>아리스토텔레스의 과학적 우주론</dc:title>
</cp:coreProperties>
</file>